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9.png" ContentType="image/png"/>
  <Override PartName="/ppt/media/image16.gif" ContentType="image/gif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1ECF8-91FB-408B-8A4C-3B840EADAF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bal &amp; written directions. If you don’t understand ask for hel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t do any experiments without teacher approv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 aisles clear, wash equipment, put notebooks in desk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CAB-E136-408D-AF20-72B4E593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AA97-747E-4E37-976E-4CA93F706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33EC-E6B2-46E1-8C84-BB4BEEECA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AC8A-B99A-4AEA-B95D-4AB58CDC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DBE24-D73A-4575-9978-8D9D467FB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6AF2-E7F7-4907-8C65-70D3760F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4D86-E3D2-435B-AC78-D365D773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C8B5-39BA-4AE2-A10A-8C604A0E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C4B8-BD24-416A-9A3E-8896BF2D5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7592-ED03-4C0E-B38A-E75D99707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469AE-05EC-4FCB-BCB0-404C21C0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01E9-85BD-4C87-8596-A34520AB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9D02-DB43-4502-BA1E-7096B25E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659A2-048B-42D4-A20A-6F1A533D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8BB8E-FD45-4609-8414-9645AD2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434E-0F23-4946-82AB-000B4B1A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4127-2119-4405-B9D6-5CF9CB50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E038-B55B-487B-9701-AE4A59AA2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49A-8D9E-4C0B-B44D-704D6400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872D-6823-405A-B638-86745ED0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5A11-684C-4E18-9DF6-CA0CE168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A62-548C-45E4-A2E6-924C19140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24E3-88AF-4312-AEC6-D96BC5B36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382A-F03A-4B65-8622-30432E0A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e62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99656-AD9B-414F-A137-740A0CF2DDC9}" type="slidenum"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e622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362B-09D8-430E-955E-1355C28F10B4}" type="slidenum">
              <a:rPr b="0" lang="en-US" sz="1400" spc="-1" strike="noStrike">
                <a:solidFill>
                  <a:srgbClr val="6e622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6e622e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6e622e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167616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06d58"/>
                </a:solidFill>
                <a:latin typeface="Times New Roman"/>
              </a:rPr>
              <a:t>Safety In the Science Lab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437920" y="2971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06d58"/>
                </a:solidFill>
                <a:latin typeface="Times New Roman"/>
              </a:rPr>
              <a:t>Rules and Symbols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14800" y="3809880"/>
            <a:ext cx="1295280" cy="129564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51880" y="6858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11760" y="5410080"/>
            <a:ext cx="152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Ms. Ratley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Rm123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2010-2011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95280" y="60199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4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4400"/>
                            </p:stCondLst>
                            <p:childTnLst>
                              <p:par>
                                <p:cTn id="8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981080" y="1828800"/>
          <a:ext cx="59850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59850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133720" y="1981080"/>
            <a:ext cx="990360" cy="9907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1981080" y="2057400"/>
          <a:ext cx="6096240" cy="40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057400"/>
                    <a:ext cx="60962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057400" y="2133720"/>
            <a:ext cx="990720" cy="9903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ese Statements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12960" y="179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1752480"/>
            <a:ext cx="76201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Hal says that his teacher is solely responsible for preventing laboratory accident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Keshia started the lab activity before reading it through completel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Ricardo decided to do a lab activity that he read about in a library book before the teacher came into the classroom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Stephanie says that the safety goggles mess up her hair and give her raccoon eyes. She refuses to wear them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4113"/>
                </a:solidFill>
                <a:latin typeface="Times New Roman"/>
                <a:ea typeface="Times New Roman"/>
              </a:rPr>
              <a:t>Barbie and Ken accidentally break a beaker full of some chemical. Instead of risking getting in trouble they quickly clean up the mess with paper towel and throw it in the garbag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1c411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762120"/>
            <a:ext cx="761760" cy="7617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 To Do In An Emergency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238880" y="2209680"/>
            <a:ext cx="914400" cy="83844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752480"/>
            <a:ext cx="75772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If there is a fire or fire alarm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Quietly get up and push in your chai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Walk toward the </a:t>
            </a:r>
            <a:r>
              <a:rPr b="0" lang="en-US" sz="2400" spc="-1" strike="noStrike" u="sng">
                <a:solidFill>
                  <a:srgbClr val="060502"/>
                </a:solidFill>
                <a:uFillTx/>
                <a:latin typeface="Times New Roman"/>
              </a:rPr>
              <a:t>outside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classroom doo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60502"/>
                </a:solidFill>
                <a:uFillTx/>
                <a:latin typeface="Times New Roman"/>
              </a:rPr>
              <a:t>Walk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to the basketball court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Quickly line up in alphabetical order by last nam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Remain in line until the drill is over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60502"/>
                </a:solidFill>
                <a:latin typeface="Times New Roman"/>
              </a:rPr>
              <a:t>Remain silent throughout the entire alarm so that all people can hear important direction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81440" y="6019920"/>
            <a:ext cx="557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2193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3266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886200" y="1828800"/>
            <a:ext cx="1085760" cy="14288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219320" y="3505320"/>
            <a:ext cx="73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1808"/>
                </a:solidFill>
                <a:latin typeface="Times New Roman"/>
              </a:rPr>
              <a:t>REMEMBER: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Carefully read through the entire safety contract and sign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Have your parents read and sign your safety contract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06050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Study for the safety quiz later this week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06d58"/>
                </a:solidFill>
                <a:latin typeface="Times New Roman"/>
              </a:rPr>
              <a:t>Safety Firs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Science is a hands-on laboratory class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You will be doing many laboratory activities, which require the use of hazardous chemicals and expensive lab equipment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Safety in the science classroom is the #1 priorit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To ensure a safe science classroom, a list of rules has been developed and provided to you in your student safety contract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These rules must be followed at all times. 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  <a:ea typeface="Times New Roman"/>
              </a:rPr>
              <a:t>A signed lab safety contract is required to participate in labs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533520"/>
            <a:ext cx="906480" cy="88416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General Safety Guideline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Be Responsible at All Times. No horseplay, practical jokes, pranks, etc.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43000" y="2971800"/>
            <a:ext cx="7620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Follow </a:t>
            </a:r>
            <a:r>
              <a:rPr b="0" lang="en-US" sz="2800" spc="-1" strike="noStrike" u="sng">
                <a:solidFill>
                  <a:srgbClr val="6e622e"/>
                </a:solidFill>
                <a:uFillTx/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 instructions carefully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3000" y="37339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Do not play with lab equipment until instructed to do so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4724280"/>
            <a:ext cx="76197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Food, drink, and gum are not allowed in the science classroom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457200"/>
            <a:ext cx="762120" cy="7621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75560" y="57150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General Safety Guideline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457200"/>
            <a:ext cx="762120" cy="76212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Keep the science room clean and organized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5560" y="5715000"/>
            <a:ext cx="711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Lab Safety: Everyone Is Responsible!</a:t>
            </a:r>
            <a:endParaRPr b="0" lang="en-US" sz="36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43000" y="24382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Notify the teacher </a:t>
            </a:r>
            <a:r>
              <a:rPr b="0" lang="en-US" sz="2800" spc="-1" strike="noStrike" u="sng">
                <a:solidFill>
                  <a:srgbClr val="e81808"/>
                </a:solidFill>
                <a:uFillTx/>
                <a:latin typeface="Times New Roman"/>
              </a:rPr>
              <a:t>immediately</a:t>
            </a: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 of any accidents or unsafe conditions in the science classroom!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505320"/>
            <a:ext cx="76201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Wash your hands with soap and water after experiments.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2666880" y="1676520"/>
            <a:ext cx="6096240" cy="16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ear safety goggles when working with chemicals, flames, or heating devices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If a chemical gets in your eye, flush in water for 15 minutes and notify the teach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20400" y="1143000"/>
            <a:ext cx="228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Eye Protection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676520" y="1752480"/>
          <a:ext cx="914400" cy="87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752480"/>
                    <a:ext cx="91440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1144440" y="3048120"/>
            <a:ext cx="218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Sharp Objects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600200" y="3657600"/>
          <a:ext cx="83808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657600"/>
                    <a:ext cx="83808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971800" y="3505320"/>
            <a:ext cx="556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hen using knifes or other sharp objects always walk with the points facing down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Cut away from fingers and bod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676520" y="5257800"/>
          <a:ext cx="920520" cy="865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5257800"/>
                    <a:ext cx="920520" cy="86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296720" y="464832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Electric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5105520"/>
            <a:ext cx="56386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Do not place a cord where someone can trip over it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use electricity around wat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Unplug all equipment before leaving the room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0760" y="1066680"/>
            <a:ext cx="224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Anim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523880" y="1676520"/>
          <a:ext cx="104004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1040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3048120" y="1600200"/>
            <a:ext cx="563868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Only handle living organisms with teacher permission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Always treat living organisms humanel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ash your hands after handling animal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6720" y="3352680"/>
            <a:ext cx="230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Heating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752480" y="3962520"/>
          <a:ext cx="1067040" cy="102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3962520"/>
                    <a:ext cx="106704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048120" y="3962520"/>
            <a:ext cx="54100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Tie back hair and loose clothes when working with open flame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look into a container as you are heating it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Heated metal and glass looks cool, use tongs or gloves before handling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leave a heat source unattended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Symbols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53352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8120" y="1066680"/>
            <a:ext cx="253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Chemical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1676520"/>
          <a:ext cx="990720" cy="9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76520"/>
                    <a:ext cx="9907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2590920" y="1676520"/>
            <a:ext cx="617220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Read all labels twice before removing a chemical from the container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Never touch, taste, or smell a chemical unless instructed by the teacher. 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Transfer chemicals carefully!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371600" y="4038480"/>
          <a:ext cx="990720" cy="944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038480"/>
                    <a:ext cx="99072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"/>
          <p:cNvSpPr/>
          <p:nvPr/>
        </p:nvSpPr>
        <p:spPr>
          <a:xfrm>
            <a:off x="1145160" y="3581280"/>
            <a:ext cx="19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Hand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4114800"/>
            <a:ext cx="59436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If a chemical spills on your skin, notify the teacher and rinse with water for 15 minute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Carry glassware carefully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20400" y="5257800"/>
            <a:ext cx="19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622e"/>
                </a:solidFill>
                <a:latin typeface="Times New Roman"/>
              </a:rPr>
              <a:t>Plant Safety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00200" y="5715000"/>
          <a:ext cx="838080" cy="80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715000"/>
                    <a:ext cx="83808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3124080" y="5638680"/>
            <a:ext cx="5257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Do not eat any plants in lab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6e622e"/>
                </a:solidFill>
                <a:latin typeface="Times New Roman"/>
              </a:rPr>
              <a:t>Wash your hands after handling plants.</a:t>
            </a:r>
            <a:endParaRPr b="0" lang="en-US" sz="20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Safety Equipment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re Blanket – By front Door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19320" y="533520"/>
            <a:ext cx="838080" cy="761760"/>
          </a:xfrm>
          <a:prstGeom prst="plus">
            <a:avLst>
              <a:gd name="adj" fmla="val 36625"/>
            </a:avLst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010280" y="457200"/>
            <a:ext cx="1646280" cy="94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066680" y="2590920"/>
            <a:ext cx="76201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6e622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622e"/>
                </a:solidFill>
                <a:latin typeface="Times New Roman"/>
              </a:rPr>
              <a:t>Fire Extinguisher – Located behind classroom door.</a:t>
            </a: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55760" y="385128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365760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To operate the fire extinguisher remember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-A-S-S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 Pull the Pin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Aim the hose at the base of the fire from 5-6  feet away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Squeeze the handl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6e622e"/>
                </a:solidFill>
                <a:latin typeface="Times New Roman"/>
              </a:rPr>
              <a:t>-Sweep the hose back and forth across the fire.</a:t>
            </a: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4720" y="5943600"/>
            <a:ext cx="50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81808"/>
                </a:solidFill>
                <a:latin typeface="Times New Roman"/>
              </a:rPr>
              <a:t>REMEMBER: Stop, Drop, &amp; Roll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1480" y="5943600"/>
            <a:ext cx="14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0502"/>
                </a:solidFill>
                <a:latin typeface="Times New Roman"/>
              </a:rPr>
              <a:t>On Fire?</a:t>
            </a:r>
            <a:endParaRPr b="0" lang="en-US" sz="28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622e"/>
                </a:solidFill>
                <a:latin typeface="Times New Roman"/>
              </a:rPr>
              <a:t>What’s Wrong With This Picture?</a:t>
            </a:r>
            <a:endParaRPr b="0" lang="en-US" sz="4400" spc="-1" strike="noStrike">
              <a:solidFill>
                <a:srgbClr val="6e622e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362320" y="1752480"/>
          <a:ext cx="4573440" cy="463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752480"/>
                    <a:ext cx="4573440" cy="463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7467480" y="3429000"/>
            <a:ext cx="685800" cy="685800"/>
          </a:xfrm>
          <a:prstGeom prst="plus">
            <a:avLst>
              <a:gd name="adj" fmla="val 33773"/>
            </a:avLst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6e622e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2T17:56:33Z</dcterms:created>
  <dc:creator>Page</dc:creator>
  <dc:description/>
  <dc:language>en-US</dc:language>
  <cp:lastModifiedBy>Cumberland County Schools</cp:lastModifiedBy>
  <dcterms:modified xsi:type="dcterms:W3CDTF">2010-08-19T14:53:28Z</dcterms:modified>
  <cp:revision>12</cp:revision>
  <dc:subject/>
  <dc:title>Safety In the Science Lab</dc:title>
</cp:coreProperties>
</file>